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767-B2DA-4CFF-BEF9-4561EC77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E57-76AB-4BAD-AF31-0416699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E62-F5A6-47E5-861A-EFF1026A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776-5EF3-4DE6-841C-4ECDCBA0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7E7-5041-49F8-8A15-D61DBD00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00F-B066-4A4D-A248-E5EC886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ECB-9B12-4C05-8FDD-8114C06A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081-BAD7-403B-AF95-C6493027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55D-528C-49FD-9990-C80FCCBE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39F-1CE5-4D1C-A981-93A8466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2D1-9766-4C72-99A1-453AC37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340-BE5B-4A86-BA82-1BCF248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B072-6D7D-410F-9353-B39FEA35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Fabio D’And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rtimento di Scienze Umane e della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à degli Studi di Peru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efinizione di struttura – T. Par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11280" y="1341360"/>
          <a:ext cx="454032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341360"/>
                    <a:ext cx="454032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zione di struttura – V. Cesare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8000" y="1413000"/>
          <a:ext cx="5256360" cy="49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13000"/>
                    <a:ext cx="5256360" cy="49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di azione – M. We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340000" y="1413000"/>
          <a:ext cx="44244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44244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 dell’azione – M. We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16000" y="1844640"/>
          <a:ext cx="71136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71136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ano invisibile: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340000" y="1268280"/>
          <a:ext cx="44575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44575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’azione economica relazionale: Rif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11280" y="1341360"/>
          <a:ext cx="431352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341360"/>
                    <a:ext cx="43135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’è la soc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79480" y="2092320"/>
          <a:ext cx="558324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2092320"/>
                    <a:ext cx="55832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ine o cont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154240" y="1600200"/>
          <a:ext cx="48355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1600200"/>
                    <a:ext cx="48355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ttura o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7280" y="1628640"/>
          <a:ext cx="406728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628640"/>
                    <a:ext cx="40672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 esponenti emblemat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771640" y="1628640"/>
          <a:ext cx="35719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628640"/>
                    <a:ext cx="35719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 diverse concezioni antropologich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40000" y="1557360"/>
          <a:ext cx="48546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57360"/>
                    <a:ext cx="48546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uomo contraddittor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56000" y="2060640"/>
          <a:ext cx="403848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060640"/>
                    <a:ext cx="403848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00800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zione “neutrale” di strut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08320" y="1600200"/>
          <a:ext cx="4525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finizione di struttura – Karl Mar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68360" y="1413000"/>
          <a:ext cx="4611960" cy="49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413000"/>
                    <a:ext cx="4611960" cy="49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32:28Z</dcterms:created>
  <dc:creator>Fabio D'Andrea</dc:creator>
  <dc:description/>
  <dc:language>en-US</dc:language>
  <cp:lastModifiedBy>Fabio D'Andrea</cp:lastModifiedBy>
  <dcterms:modified xsi:type="dcterms:W3CDTF">2008-04-05T15:46:39Z</dcterms:modified>
  <cp:revision>5</cp:revision>
  <dc:subject/>
  <dc:title>Lezioni</dc:title>
</cp:coreProperties>
</file>